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8.png" ContentType="image/png"/>
  <Override PartName="/ppt/media/ups.wav" ContentType="audio/x-wav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drama.wav" ContentType="audio/x-wav"/>
  <Override PartName="/ppt/media/image2.png" ContentType="image/png"/>
  <Override PartName="/ppt/media/image14.png" ContentType="image/png"/>
  <Override PartName="/ppt/media/image5.png" ContentType="image/png"/>
  <Override PartName="/ppt/media/apert2.wav" ContentType="audio/x-wav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dt" idx="4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88829-3CD6-4160-85F6-A2884451FA0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AA578-73A5-4961-827B-4531C33FF6E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C325D-9D0E-4CC9-95A9-7B7CFA57B2C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7DA4A-4E7A-4144-8C9E-9464F9F9A53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5EBD9-28A8-4B5B-9FDA-E0B3FDEB931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1FAD9-BAD1-4D38-A068-F626186F09F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A939-7BEE-4D53-B2CB-47E8BF6E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A8A-5084-4517-AC04-A79E5993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2B08B-924E-4597-BCCB-511C9837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F01D7-FF11-46A0-BAC2-A139E189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24195-C4E4-40DE-9CFE-7E591269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4B216-F95F-46AD-A75E-178040A3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427B0-B6D1-4DE9-8AAC-252B7301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2B105-137F-46D7-AF21-B2B50347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27E6B-A2A9-43EE-86FF-B791C417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AC2BE-AB10-4824-A1D5-8E113E0F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EC017-18AD-4490-8608-330D8F2F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6C23F-8F45-42CB-9D75-AAADC69C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9D3-C11F-4E91-A27D-B1BAC65D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51C5D-92FF-4611-A2DF-66ACFBBA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A6F9B-ECD9-49FA-A560-9F149F8D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CB813-8047-4B60-96CB-561F3183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DE83F-49EF-4B4E-9EA7-6F92886C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5612E-A783-4B4A-A922-B3EF3056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81145-6046-4527-A827-0925651B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1538E-B135-452A-A37C-865A73FD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A946C-400B-44E2-BB42-CECC1FEC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2BEE2-01DD-4EBA-B317-727AE5C7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DDCA2-22BA-4D21-8737-E7DD3737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67A-70FC-44DC-9C9C-1323DB3D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7DC4C-A9E7-4D49-ADCC-CB5E8AA2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D0A94-B1C1-416B-B16F-8C24FBB9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39708-3087-40EF-A624-0EC51C69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6307C-8A5D-4720-A0FE-5C36B7FB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94AB2-4033-415B-9BB9-7B07BBED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C3B78-E1FF-4B04-83D8-A020D2C6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352E0-5E0D-4F43-B993-5D8DE791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3DF6D-8F83-4194-8519-D4695FA8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D8C24-4E50-4BF0-B8F4-0934B01E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06561-FBC2-4ACD-A196-BF5BE482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0E2B-2F69-4C69-BC39-8800919D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44C35-CAFB-4497-9BE8-B928767E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5675C-A491-488C-8059-5A842A17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096DF-A9A8-4556-A772-4B3F36C5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B1951-FDA9-4142-88F5-5F936B1A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F95FD-2F81-49A9-9219-F99FF1CF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C6CF8-3378-4B4B-8B4D-2C88D9CE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32B0F-3D42-4617-AA7A-11985877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94F79-8146-4F69-942A-88A4A62A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10CAA-3344-4EA1-AE8F-ACDC2370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CC269-2AA1-48E5-AD8A-54EB9CBB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181B-3C09-40F2-A4D3-10A36E01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A5DDE-F745-4793-ADC0-4A88B060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098C9-FCA2-4C88-80F1-EE06D8E9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2CEDC-DCD7-4E48-A6FC-49B80F1E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FBCC1-839A-482D-96D6-CC4287A6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9DF28-E746-44D9-915F-C522EF59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0434E8-80C2-4E40-8BD1-20F158D3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09DD1-4366-4A6B-A81D-B7128256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28C03-4CDF-4FA2-9E5C-A816B371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98ABB-D86A-4387-9694-09D5FFA1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B81AC-C965-4FE2-8691-8F5AA7A2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3C63-DB96-4902-BAB7-FCA84F1D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8B4F4B-177D-46FD-9F1A-29EA9315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E05324-D3E4-48C6-8068-E54C7336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4E798-7797-41DF-A797-D26D3D93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E62D0-5949-45FF-A9EE-C79F42B8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2723A-AD03-47B8-A979-5707D6B6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50AEB-D819-48E1-AA76-386739FB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46439-DF55-46E3-844F-ADBBEE95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D2C9-8E09-461A-8D27-40A30125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16B9-0908-432E-884C-9530EE59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BB24-86ED-46FB-9765-81D1B81C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1B14-4321-40BF-8F3B-E94080FE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8043-6776-4FAF-ABE3-33936CB0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D7A7-30B6-482B-9B07-C4DC435B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9C3B-0851-459F-87F9-14F35ABC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75BD-B04D-4A29-BA9E-61C2FCC6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5298-35F8-4478-843F-1A75A52B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D99F-6D85-4E23-8527-64EEAA2F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D0AE4-2559-4782-99D7-679234E7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2393E-F5AE-47DA-99C5-C32A8BEC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CA499-AA8E-40A2-A403-69BC82D8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04CD-A495-4DF0-9222-37DD125A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F8EFD-F65F-4261-8051-246459D8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247-1770-4373-BBFD-0100E4CC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F9E5D-709F-417B-A4D2-8DC52F30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B25CC-314F-4C8F-BF38-1E34A80F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1EA0C-859A-430F-BC98-3E484EF2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DCCE9-9EB1-4220-BD78-2A8817AE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11A2E-888D-48EE-A977-91560E37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B43E2-CF60-42B5-B64D-1E48ABFF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39455-DB9F-4522-9562-689A678F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BE163-10ED-4D32-A1D6-8F932FBB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3BD5F-AAC9-47CC-AE27-EB80398D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A21AD-2AEA-4701-882F-0C4FA7C6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C22A-ACE0-4D8E-A8D4-06DC2B54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A715C-5CFE-4A9B-B4FD-FC040CE3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DC503-6782-4074-802F-4DCD1AB2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C1422-5F0D-49AA-B097-D3876EF0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397C5-69B7-4497-A5A1-B16B6B69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586A3-0885-4FF3-B325-0AAC8742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2CE76-06E6-4B3C-BF36-F6B2531F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CA4F-30D5-4BFF-868D-612D7F1B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0A543-24AD-4441-B3BA-33691C11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92DB7-3053-4B6C-99A2-7AB59C5E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B791F-E0F4-4ABC-9A5D-656BCDF3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21D-603A-4068-8203-D12930EF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DE8A9-B3A4-45F2-8175-60FFF869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48F2F-87DE-418E-9581-FA106EE3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3A480-6DFE-49A9-87E9-18FFBC80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B2AA3-2544-4D65-A1B8-E345DF39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52F7B-4E28-48D4-BA84-A610578F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0F63E-AD98-460E-9FE4-427B1905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728B7-20C7-4880-9333-0C7EF889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7B621-3A64-4ACE-8777-BEAEE710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F03BF-FDB0-4DD0-8533-B599B55A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E3046-FF00-469C-ACE6-489A140D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331-7E56-4B39-92FF-E1E1D6CE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7A111-C312-459D-9830-673D09E0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6A031-9E37-4D2E-9062-35A436B2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62950-073C-4583-9BB8-5BE64EE7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50688-A387-4F19-9247-53413DF3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84E1F-2E55-42FC-9975-D41C8FD5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97864-A247-4D7A-81B3-B2838529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063A4-AFD9-4F6A-8F5E-EC255BD9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AD2F4-224F-4C69-BE5F-06474F06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82B5A-65D5-423F-BE99-B2124583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B7F20-49D1-4AB5-9C52-D88F9730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945-9041-4A07-953E-CD2F13D3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3FED7-EEA2-4DC3-BDE8-0D1CFEE3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78963-01CC-4F60-863F-56D6FA22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CF27B-E54F-4158-B7B9-726119B2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627B7-3A98-42B9-9981-26C53232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1C30D-447B-4B45-871D-CC981F18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5018E-62E4-4D1B-AAF0-073BE150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DB7F6-EB47-48D2-8EA9-B85D6642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91A4F-FDAC-41E8-A54B-1662DE7C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3EB76-D84B-42C3-A48E-01C2D723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80CC1-D816-4331-ADEE-903E19D7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7A5-C61C-4729-8603-EB35AE78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DA9F1-1C49-49CC-86D1-BAA55191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6E3B5-4536-49FE-BB9E-2D6A4585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ECC00-4848-49B9-B823-5B6E42B6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44987-CBDE-4F84-A84C-32C4D14A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59D18-809A-49A5-B674-9E74B47E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E7F65-D2FD-4EE3-84DC-24D8A93C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0C6AD-8AB1-494C-A423-A1CA9A88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8BBF1-B70D-4013-9CCC-44B32F13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B9714-6FB1-4E92-A5D3-8969085D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E8BD7-CE7B-4A3A-AF90-67C08DCF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FD9-F68F-4D34-B611-A79F6CF8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C490D-82A0-451E-8E93-3ED64FEA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267A6-E21D-45DB-BEB5-145E1290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389EA-BB0F-4D4E-9B99-5529CC9F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487E6-06B5-4088-920F-238AEC6B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7B541-13D9-4328-9B2F-FAEB1387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8B4C1-D6E6-474F-86A3-F19CB656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57FBF-D59D-4601-AC37-F92E84D5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B9171-7476-48C0-9558-BEF0598D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B580C-752F-458E-8F81-6D3E3837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58E98-173D-439B-BDB0-C0DC71EB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E25DE-9CC2-469D-A40B-1557A17D208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362A6-2879-4C30-9A02-0728CCBCFEAC}" type="slidenum">
              <a:rPr b="0" lang="el-G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6098E-1EB0-440A-A67C-99B5BC67053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60E93-388E-475B-B283-A3FF345DF46D}" type="slidenum">
              <a:rPr b="0" lang="el-G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9640" y="1767960"/>
            <a:ext cx="8818560" cy="5069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539280" y="6995880"/>
            <a:ext cx="233676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471480" y="6995880"/>
            <a:ext cx="31798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237080" y="6995880"/>
            <a:ext cx="233676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80899-6F5E-41EF-8A38-2E9F6753009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3183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6640" y="634680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1000" y="6346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E89D5-34E6-430E-9233-48509201B7E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72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454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8336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948FD-BCB3-4608-A9DE-E9DDE46ECF4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76080" y="630072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19280" y="6318360"/>
            <a:ext cx="3220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1720" y="63183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5CFA2-75A7-453E-ADB6-94DC7BED820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76080" y="630072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19280" y="6318360"/>
            <a:ext cx="3220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1720" y="63183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D2FC2-A5B9-4F57-AABF-719BF778EE1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3F3B1-2FF6-44A2-8606-55E435E3B9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20360" y="717480"/>
            <a:ext cx="8458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079280" y="2340000"/>
            <a:ext cx="791820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0163B-0119-4DBF-87BC-BC2C8A88D20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971280" y="6743520"/>
            <a:ext cx="23461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699000" y="6743520"/>
            <a:ext cx="31939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335720" y="6743520"/>
            <a:ext cx="234648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6125A-F495-4F9E-9F12-A2B70E611B81}" type="slidenum">
              <a:rPr b="0" lang="el-G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39640" y="63183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266640" y="634680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831000" y="6346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85BAD-6E77-4160-B01D-B859131D0A2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ups.wav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drama.wav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apert2.wav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400" spc="-1" strike="noStrike">
                <a:solidFill>
                  <a:srgbClr val="800000"/>
                </a:solidFill>
                <a:latin typeface="Arial"/>
              </a:rPr>
              <a:t>After the End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Once upon a time everyone lived happily. One day without a reason a big explosion happen</a:t>
            </a:r>
            <a:r>
              <a:rPr b="0" lang="en-GB" sz="2400" spc="-1" strike="noStrike">
                <a:solidFill>
                  <a:srgbClr val="006b6b"/>
                </a:solidFill>
                <a:latin typeface="Arial"/>
              </a:rPr>
              <a:t>ed</a:t>
            </a: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  and everyone became zombies. Only tw</a:t>
            </a:r>
            <a:r>
              <a:rPr b="0" lang="en-GB" sz="2400" spc="-1" strike="noStrike">
                <a:solidFill>
                  <a:srgbClr val="006b6b"/>
                </a:solidFill>
                <a:latin typeface="Arial"/>
              </a:rPr>
              <a:t>o</a:t>
            </a: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 persons survived. 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059080" y="1767960"/>
            <a:ext cx="430380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l-GR" sz="2400" spc="-1" strike="noStrike">
              <a:solidFill>
                <a:srgbClr val="006b6b"/>
              </a:solidFill>
              <a:latin typeface="Arial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5040360" y="3419640"/>
            <a:ext cx="4319640" cy="36003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" descr=""/>
          <p:cNvPicPr/>
          <p:nvPr/>
        </p:nvPicPr>
        <p:blipFill>
          <a:blip r:embed="rId2"/>
          <a:stretch/>
        </p:blipFill>
        <p:spPr>
          <a:xfrm>
            <a:off x="5040360" y="1752480"/>
            <a:ext cx="4319640" cy="4187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up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400" spc="-1" strike="noStrike">
                <a:solidFill>
                  <a:srgbClr val="800000"/>
                </a:solidFill>
                <a:latin typeface="Arial"/>
              </a:rPr>
              <a:t>ZOM</a:t>
            </a:r>
            <a:r>
              <a:rPr b="0" lang="en-GB" sz="4400" spc="-1" strike="noStrike">
                <a:solidFill>
                  <a:srgbClr val="800000"/>
                </a:solidFill>
                <a:latin typeface="Arial"/>
              </a:rPr>
              <a:t>B</a:t>
            </a:r>
            <a:r>
              <a:rPr b="0" lang="el-GR" sz="4400" spc="-1" strike="noStrike">
                <a:solidFill>
                  <a:srgbClr val="800000"/>
                </a:solidFill>
                <a:latin typeface="Arial"/>
              </a:rPr>
              <a:t>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So they decided to look for other survivors. But the only thing they found  was only zombies. At night they went in a hotel to sleep.  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59080" y="1767960"/>
            <a:ext cx="430380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l-GR" sz="2400" spc="-1" strike="noStrike">
              <a:solidFill>
                <a:srgbClr val="006b6b"/>
              </a:solidFill>
              <a:latin typeface="Arial"/>
            </a:endParaRPr>
          </a:p>
        </p:txBody>
      </p:sp>
      <p:pic>
        <p:nvPicPr>
          <p:cNvPr id="548" name="Picture 4" descr=""/>
          <p:cNvPicPr/>
          <p:nvPr/>
        </p:nvPicPr>
        <p:blipFill>
          <a:blip r:embed="rId1"/>
          <a:stretch/>
        </p:blipFill>
        <p:spPr>
          <a:xfrm>
            <a:off x="5054760" y="1800360"/>
            <a:ext cx="4305240" cy="2160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"/>
          <p:cNvPicPr/>
          <p:nvPr/>
        </p:nvPicPr>
        <p:blipFill>
          <a:blip r:embed="rId2"/>
          <a:stretch/>
        </p:blipFill>
        <p:spPr>
          <a:xfrm>
            <a:off x="5040360" y="3959280"/>
            <a:ext cx="431964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dram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l-GR" sz="4400" spc="-1" strike="noStrike">
                <a:solidFill>
                  <a:srgbClr val="800000"/>
                </a:solidFill>
                <a:latin typeface="Arial"/>
              </a:rPr>
              <a:t>The elder</a:t>
            </a:r>
            <a:r>
              <a:rPr b="0" lang="el-GR" sz="4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i="1" lang="el-GR" sz="4400" spc="-1" strike="noStrike" u="sng">
                <a:solidFill>
                  <a:srgbClr val="800000"/>
                </a:solidFill>
                <a:uFillTx/>
                <a:latin typeface="Arial"/>
              </a:rPr>
              <a:t>and the metro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5840" cy="4344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6b6b"/>
                </a:solidFill>
                <a:latin typeface="Arial"/>
              </a:rPr>
              <a:t>The next morning they went to look at the met</a:t>
            </a:r>
            <a:r>
              <a:rPr b="0" lang="en-GB" sz="2800" spc="-1" strike="noStrike">
                <a:solidFill>
                  <a:srgbClr val="006b6b"/>
                </a:solidFill>
                <a:latin typeface="Arial"/>
              </a:rPr>
              <a:t>ro</a:t>
            </a:r>
            <a:r>
              <a:rPr b="0" lang="el-GR" sz="2800" spc="-1" strike="noStrike">
                <a:solidFill>
                  <a:srgbClr val="006b6b"/>
                </a:solidFill>
                <a:latin typeface="Arial"/>
              </a:rPr>
              <a:t>. There found nothing except zom</a:t>
            </a:r>
            <a:r>
              <a:rPr b="0" lang="en-GB" sz="2800" spc="-1" strike="noStrike">
                <a:solidFill>
                  <a:srgbClr val="006b6b"/>
                </a:solidFill>
                <a:latin typeface="Arial"/>
              </a:rPr>
              <a:t>b</a:t>
            </a:r>
            <a:r>
              <a:rPr b="0" lang="el-GR" sz="2800" spc="-1" strike="noStrike">
                <a:solidFill>
                  <a:srgbClr val="006b6b"/>
                </a:solidFill>
                <a:latin typeface="Arial"/>
              </a:rPr>
              <a:t>ie</a:t>
            </a:r>
            <a:r>
              <a:rPr b="0" lang="en-GB" sz="2800" spc="-1" strike="noStrike">
                <a:solidFill>
                  <a:srgbClr val="006b6b"/>
                </a:solidFill>
                <a:latin typeface="Arial"/>
              </a:rPr>
              <a:t>s</a:t>
            </a:r>
            <a:r>
              <a:rPr b="0" lang="el-GR" sz="2800" spc="-1" strike="noStrike">
                <a:solidFill>
                  <a:srgbClr val="006b6b"/>
                </a:solidFill>
                <a:latin typeface="Arial"/>
              </a:rPr>
              <a:t>. Then they proceed</a:t>
            </a:r>
            <a:r>
              <a:rPr b="0" lang="en-GB" sz="2800" spc="-1" strike="noStrike">
                <a:solidFill>
                  <a:srgbClr val="006b6b"/>
                </a:solidFill>
                <a:latin typeface="Arial"/>
              </a:rPr>
              <a:t>ed</a:t>
            </a:r>
            <a:r>
              <a:rPr b="0" lang="el-GR" sz="2800" spc="-1" strike="noStrike">
                <a:solidFill>
                  <a:srgbClr val="006b6b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b6b"/>
                </a:solidFill>
                <a:latin typeface="Arial"/>
              </a:rPr>
              <a:t>and saw one old person</a:t>
            </a:r>
            <a:r>
              <a:rPr b="0" lang="el-GR" sz="2800" spc="-1" strike="noStrike">
                <a:solidFill>
                  <a:srgbClr val="006b6b"/>
                </a:solidFill>
                <a:latin typeface="Arial"/>
              </a:rPr>
              <a:t>. </a:t>
            </a:r>
            <a:r>
              <a:rPr b="0" lang="en-GB" sz="2800" spc="-1" strike="noStrike">
                <a:solidFill>
                  <a:srgbClr val="006b6b"/>
                </a:solidFill>
                <a:latin typeface="Arial"/>
              </a:rPr>
              <a:t>He </a:t>
            </a:r>
            <a:r>
              <a:rPr b="0" lang="el-GR" sz="2800" spc="-1" strike="noStrike">
                <a:solidFill>
                  <a:srgbClr val="006b6b"/>
                </a:solidFill>
                <a:latin typeface="Arial"/>
              </a:rPr>
              <a:t>advised </a:t>
            </a:r>
            <a:r>
              <a:rPr b="0" lang="en-GB" sz="2800" spc="-1" strike="noStrike">
                <a:solidFill>
                  <a:srgbClr val="006b6b"/>
                </a:solidFill>
                <a:latin typeface="Arial"/>
              </a:rPr>
              <a:t>them </a:t>
            </a:r>
            <a:r>
              <a:rPr b="0" lang="el-GR" sz="2800" spc="-1" strike="noStrike">
                <a:solidFill>
                  <a:srgbClr val="006b6b"/>
                </a:solidFill>
                <a:latin typeface="Arial"/>
              </a:rPr>
              <a:t>to go to the forest to find the golden apple.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151600" y="2165400"/>
            <a:ext cx="442584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l-GR" sz="2400" spc="-1" strike="noStrike">
              <a:solidFill>
                <a:srgbClr val="006b6b"/>
              </a:solidFill>
              <a:latin typeface="Arial"/>
            </a:endParaRPr>
          </a:p>
        </p:txBody>
      </p:sp>
      <p:pic>
        <p:nvPicPr>
          <p:cNvPr id="553" name="Picture 4" descr=""/>
          <p:cNvPicPr/>
          <p:nvPr/>
        </p:nvPicPr>
        <p:blipFill>
          <a:blip r:embed="rId1"/>
          <a:stretch/>
        </p:blipFill>
        <p:spPr>
          <a:xfrm>
            <a:off x="5157720" y="2160720"/>
            <a:ext cx="2401920" cy="1979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"/>
          <p:cNvPicPr/>
          <p:nvPr/>
        </p:nvPicPr>
        <p:blipFill>
          <a:blip r:embed="rId2"/>
          <a:stretch/>
        </p:blipFill>
        <p:spPr>
          <a:xfrm>
            <a:off x="7559640" y="3600360"/>
            <a:ext cx="1979640" cy="28180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"/>
          <p:cNvPicPr/>
          <p:nvPr/>
        </p:nvPicPr>
        <p:blipFill>
          <a:blip r:embed="rId3"/>
          <a:stretch/>
        </p:blipFill>
        <p:spPr>
          <a:xfrm>
            <a:off x="5062680" y="4680000"/>
            <a:ext cx="249696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4" name="apert2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400" spc="-1" strike="noStrike">
                <a:solidFill>
                  <a:srgbClr val="800000"/>
                </a:solidFill>
                <a:latin typeface="Arial"/>
              </a:rPr>
              <a:t>We got the ap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396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So began the trip in</a:t>
            </a:r>
            <a:r>
              <a:rPr b="0" lang="en-GB" sz="2400" spc="-1" strike="noStrike">
                <a:solidFill>
                  <a:srgbClr val="006b6b"/>
                </a:solidFill>
                <a:latin typeface="Arial"/>
              </a:rPr>
              <a:t> the</a:t>
            </a: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 forest. There they saw a</a:t>
            </a:r>
            <a:r>
              <a:rPr b="0" lang="en-GB" sz="2400" spc="-1" strike="noStrike">
                <a:solidFill>
                  <a:srgbClr val="006b6b"/>
                </a:solidFill>
                <a:latin typeface="Arial"/>
              </a:rPr>
              <a:t>n</a:t>
            </a: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 old tree. They realized that there would be</a:t>
            </a:r>
            <a:r>
              <a:rPr b="0" lang="en-GB" sz="2400" spc="-1" strike="noStrike">
                <a:solidFill>
                  <a:srgbClr val="006b6b"/>
                </a:solidFill>
                <a:latin typeface="Arial"/>
              </a:rPr>
              <a:t> the apple</a:t>
            </a: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. They began digging downward and found the golden apple to the last root of the tree.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6528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l-GR" sz="2400" spc="-1" strike="noStrike">
              <a:solidFill>
                <a:srgbClr val="006b6b"/>
              </a:solidFill>
              <a:latin typeface="Arial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5219640" y="1913040"/>
            <a:ext cx="4140360" cy="18669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"/>
          <p:cNvPicPr/>
          <p:nvPr/>
        </p:nvPicPr>
        <p:blipFill>
          <a:blip r:embed="rId2"/>
          <a:stretch/>
        </p:blipFill>
        <p:spPr>
          <a:xfrm>
            <a:off x="5219640" y="3780000"/>
            <a:ext cx="431964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400" spc="-1" strike="noStrike">
                <a:solidFill>
                  <a:srgbClr val="800000"/>
                </a:solidFill>
                <a:latin typeface="Arial"/>
              </a:rPr>
              <a:t>At last peo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So, after having the apple and the filter, </a:t>
            </a:r>
            <a:r>
              <a:rPr b="0" lang="en-GB" sz="2400" spc="-1" strike="noStrike">
                <a:solidFill>
                  <a:srgbClr val="006b6b"/>
                </a:solidFill>
                <a:latin typeface="Arial"/>
              </a:rPr>
              <a:t>they poured them</a:t>
            </a: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 over the zom</a:t>
            </a:r>
            <a:r>
              <a:rPr b="0" lang="en-GB" sz="2400" spc="-1" strike="noStrike">
                <a:solidFill>
                  <a:srgbClr val="006b6b"/>
                </a:solidFill>
                <a:latin typeface="Arial"/>
              </a:rPr>
              <a:t>b</a:t>
            </a: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ie</a:t>
            </a:r>
            <a:r>
              <a:rPr b="0" lang="en-GB" sz="2400" spc="-1" strike="noStrike">
                <a:solidFill>
                  <a:srgbClr val="006b6b"/>
                </a:solidFill>
                <a:latin typeface="Arial"/>
              </a:rPr>
              <a:t>s and they</a:t>
            </a: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 became people</a:t>
            </a:r>
            <a:r>
              <a:rPr b="0" lang="en-GB" sz="2400" spc="-1" strike="noStrike">
                <a:solidFill>
                  <a:srgbClr val="006b6b"/>
                </a:solidFill>
                <a:latin typeface="Arial"/>
              </a:rPr>
              <a:t> again</a:t>
            </a: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l-GR" sz="5400" spc="-1" strike="noStrike" u="sng">
                <a:solidFill>
                  <a:srgbClr val="006b6b"/>
                </a:solidFill>
                <a:uFillTx/>
                <a:latin typeface="Arial"/>
              </a:rPr>
              <a:t>The end</a:t>
            </a:r>
            <a:endParaRPr b="0" lang="en-US" sz="5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l-GR" sz="2400" spc="-1" strike="noStrike">
              <a:solidFill>
                <a:srgbClr val="006b6b"/>
              </a:solidFill>
              <a:latin typeface="Arial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1"/>
          <a:stretch/>
        </p:blipFill>
        <p:spPr>
          <a:xfrm>
            <a:off x="5072040" y="1979640"/>
            <a:ext cx="392760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0:00:31Z</dcterms:created>
  <dc:creator>Georgia Makrogiorgou</dc:creator>
  <dc:description/>
  <dc:language>en-US</dc:language>
  <cp:lastModifiedBy>Georgia Makrogiorgou</cp:lastModifiedBy>
  <dcterms:modified xsi:type="dcterms:W3CDTF">2016-02-17T18:36:10Z</dcterms:modified>
  <cp:revision>4</cp:revision>
  <dc:subject/>
  <dc:title>After the End</dc:title>
</cp:coreProperties>
</file>